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F19D-F728-4B5C-82E8-B3AFDED01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 was afraid of being bombed by the Soviets, who were making nuclear weap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es Van Allen, designer of Explor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ical Self-este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americans either approved or did not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6E6-BB22-4221-BB7B-DEECC3B8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A541-5D7B-494E-8B41-C1FFDD2D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ECB-CD9E-4ACB-ABB0-44811A52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FE9-2B6D-437F-AAE0-66CCB9BF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77DA-D807-403B-9BA4-49666B1A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41DA-56F1-4384-97EC-1A60406F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8BB-C0D2-4A7E-BCEB-637F6B55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BEE-D9E0-4C8F-9B17-2299523C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5C9-196A-473C-A268-A42A98A6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6826-858D-4FF9-BEBB-197DC175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ADDF-C297-4264-9E70-00DDC07B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96E-E626-4DFD-96F1-EB3D5C00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17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78040" indent="-254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693900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6939000"/>
            <a:ext cx="3216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693900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FF382B8B-BF2C-4E6C-A279-94A5D7E33C3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68520" y="4368960"/>
            <a:ext cx="7022880" cy="18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lissa Mulc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eter We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41680" y="838080"/>
            <a:ext cx="53211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07932" dir="27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The Space Race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07932" dir="27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"spoon-fed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o ea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usic and 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995, Progressive Education Association clos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fe-adjustment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gher academic standards, especially in mathematics and sc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tional Defense Education Act of 195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$887 Million federal f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sed on fundemental ideas, scientific inquiry, mathematic problem-solv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tional Academy of Sciences (N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tional Academy of Engineering (NA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erican Mathematical Society (AM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olitical Impa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litics was seldom scathed by the Sputnik launch; however, the illusion of the "Missile Gap" was the heat of debate in the 1960 presidential 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viets surpassed US techn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viet Premier Nikita Khrushchev attempted to inflame American feelings of inferior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Missile Ga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ficency in production of missiles as compared to the Sovie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d Americans to believe that Soviets were far ahead of the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enter of Kennedy's campaig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d to Cuban Missile Cri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892840" y="3962520"/>
            <a:ext cx="30574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960 Presidential Election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rge impa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nnedy used it to help his campa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nger of US inferio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7% of Americans believed in the false "Missile Gap", affected their v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ear reason why he won against Nix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213680" y="3657600"/>
            <a:ext cx="255096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cial Impa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ericans developed a new awarenes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cial awareness of civil ri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creased its attention to civil rights, poverty, and an escalating war in Vietna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ra of protest that education did not esca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eated f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mb shelters bui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opled worried whether USSR would attack US/launch missle from s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chools did bomb-attack dr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99280" y="5079960"/>
            <a:ext cx="314460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266652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END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ibliograp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3120" cy="56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bee, Rodger. "The Sputnik Era: Why is this Educational Reform Different from All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orms?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flecting on Sputni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1997): n. pag. Web. 4 Jun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http://www.nationalacademies.org/sputnik/bybee2.htm&gt;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k, Steven. "Assessing the impact of space on society ." n. pag. Web. 4 Jun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http://www.sciencedirect.com&gt;.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Early NASA Era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PL Timel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 pag. Web. 9 Jun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http://beacon.jpl.nasa.gov/Find/Timeline/Eras/earlynasa.html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tchinson,Daniel."MissileGap."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harp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eb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http://www.sharpeonline.com/SOLR/a/searchedContent/6/book006-PART1-        article360&gt;.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National Defense Education Act of 1958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o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p., n.d. Web. 9 Jun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http://www.enotes.com/1950-education-american-decades/national-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cation-act&gt;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ith, Rodger. "United States Launches Its First Orbiting Satellite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alem Pr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We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http://history.salempress.com/doi/full/10.3331/GE20b_2621030422?prevSearch=%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2240" y="-101880"/>
            <a:ext cx="9055080" cy="26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How did the successful launch of the Soviet </a:t>
            </a:r>
            <a:r>
              <a:rPr b="0" i="1" lang="en-US" sz="5600" spc="-1" strike="noStrike">
                <a:solidFill>
                  <a:srgbClr val="ffffff"/>
                </a:solidFill>
                <a:latin typeface="Arial"/>
              </a:rPr>
              <a:t>Sputnik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impact the United States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395520" y="2743200"/>
            <a:ext cx="33688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About the Rac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ult of Nuclear Arms Race (ICB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57-19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viet Russia v. United 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viets: wanted control of space to easily bomb the US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A: spy satellite to warn the homeland of Soviet a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5600" spc="-1" strike="noStrike">
                <a:solidFill>
                  <a:srgbClr val="ffffff"/>
                </a:solidFill>
                <a:latin typeface="Arial"/>
              </a:rPr>
              <a:t>Sputnik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5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Launc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ctober 4, 195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utnik 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bited the Earth every 96.1 minu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rprised Americans; rose fe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inerated upon reentering the atmosphere January 3rd, 195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Impact Overview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pace Program (NASA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olitics (“Missile Gap”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Space Program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Vega Proje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900" spc="-1" strike="noStrike">
                <a:solidFill>
                  <a:srgbClr val="ffffff"/>
                </a:solidFill>
                <a:latin typeface="Arial"/>
              </a:rPr>
              <a:t>Explorer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; January 31, 1958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900" spc="-1" strike="noStrike">
                <a:solidFill>
                  <a:srgbClr val="ffffff"/>
                </a:solidFill>
                <a:latin typeface="Arial"/>
              </a:rPr>
              <a:t>NASA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; October 1, 1958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asteful tax dollars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ay, 1961: Kennedy announced goal to land Americans on the moon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Explor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9000" y="2133720"/>
            <a:ext cx="9664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ircled Earth on January 31, 195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duced a scientific surprise that was important for later piloted spacef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osted the United States’s technological self-este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ribution to the understanding of outer space and the establishment of the National Aeronautics and Space Administration (NAS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05720" y="101520"/>
            <a:ext cx="27432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A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5800" y="1117080"/>
            <a:ext cx="966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 October 1, 1958, NASA began 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ga Project (Explor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sident John F. Kennedy announced a program to land Americans on the mo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nger, Surveyor, Prospector, Apol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riner 2 ---USA launch to Venus, finally ahead of Sovie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ly 1969 --- USA first to put a man on the mo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84880" y="4165560"/>
            <a:ext cx="37368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000" y="299880"/>
            <a:ext cx="96631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7680" y="2844720"/>
            <a:ext cx="949320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Drastic education revolution toward mathematics and science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40160" y="4267080"/>
            <a:ext cx="4363920" cy="3116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12880" y="304920"/>
            <a:ext cx="239688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30525</cp:lastModifiedBy>
  <dcterms:modified xsi:type="dcterms:W3CDTF">2010-06-10T14:41:11Z</dcterms:modified>
  <cp:revision>4</cp:revision>
  <dc:subject/>
  <dc:title>PowerPoint Presentation</dc:title>
</cp:coreProperties>
</file>